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6C9A-A42C-43EC-B330-54D4E7D5F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74A5-F52E-4F43-A71F-530D5333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E9D1-E0DE-45E7-99C2-9081B3FF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221D-7BA3-45DD-86EC-B6643A3CB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3958-2DAD-484C-A54B-5DA2CF9E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8EFB-659F-484F-AF62-30C8354D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A4E0-6ED7-4C50-8661-5FE1A7CE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E611-BFC7-4FF3-991A-D84C22B5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73A0-A5D2-43AB-9438-5DEF9C85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6DAC-420E-467A-A7FD-BEF332F5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53D1-97CC-4DD5-9337-2D04A42F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E97C-4358-487A-9BB7-C2B70460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FB20-DEE9-43BD-A895-521BAACA5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FORMACIÓN  DE  LA  CORTEZA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deformación  de la corteza  está  documentada  por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movimientos  históricos  a  lo  largo  de   fall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;   por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terrazas   marinas    y   playas  solevantad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(con  desarrollo   de   acantilado  costero);   por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tierras  sumergid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;    por 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uerpos   de   roca   fracturados,    fallados   y   plegado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;   etc...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deformación mas  intensa  está  representada  por  las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DENAS   DE   MONTAÑAS   PLEGADAS,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se desarrollan  a  lo largo  de los  contactos  convergentes de  pla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OS   MOVIMIENTOS   OBSERVABLES,   EN    PROCESO  DE   DESARROLLO,     pueden   ser   MOVIMIENTOS   ABRUPTOS                     ( ejemplos: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Yakutat:  15  m ,  San Francisco:  7  m ,  y  Valdivia:  2 m )                                                                        o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OVIMIENTOS   LENTOS    (ejemplos: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Bakersfield    (California):     2.5  cm  x  año ,  Templo de Serapis ,  Mar  Báltico,  Costa  Austral de Ch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27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 rocas   expuestas   a esfuerzos   de   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COMPRESIÓN, EXTENSIÓN  Y  CIZALLE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,   responden   deformándose   y generando  estructuras   (llamadas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secundarias,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en  oposición a  las  estructuras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rimarias  o  singenéticas,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 son  comunes en  las  rocas  sedimentari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La  roca  se  deforma  cuando  se  le   aplica  un  esfuerzo  que  excede  la  resistencia  del  mate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 respuesta  será  en  función  de  la   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PRESIÓN   CONFINANTE,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la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  TEMPERATURA,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el 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   TIEMPO  DE  APLICACIÓN,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los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   FLUIDOS   INTRA  -POROS  y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el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  TIPO  DE RO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   general, cerca de la superficie,  la   roca   se  comporta   de manera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FRAGIL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rígida)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 se fractura..   Las estructuras resultantes son:  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DIACLASAS  y  FALLAS</a:t>
            </a:r>
            <a:r>
              <a:rPr b="0" lang="es-ES_tradnl" sz="24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 mayor  profundidad  (del orden de 3 km),  la  roca  se comporta  de  manera 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ÚCTIL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(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lástica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)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 se  pliega  o  fluye  plásticamente.  La estructura  resultante  es  un 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PLIE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 grandes  profundidades  se  llega  al  dominio  de   la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FUSIÓN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viscoso),  dónde  se  originan  pliegues  de  flujo o  aparición  de  esquistocidad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IPOS DE ESTRUCTURAS                                                  (y esfuerzos asocia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PLIEGUE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esfuerzo compresivo):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ANTICLINALES    Y  SINCLIN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(simétrico,  asimétrico,  volcado,  recumbente,  isoclinal ;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ONOCLINALES;   DOMOS  Y  CUENCAS;   PLIEGUES   COMPLEJO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lementos de un pliegu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FLANCO  o  LIMBO,     PLANO AXIAL,    EJE   DE   PLIEGUE    o   CHARN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FRACTUR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esfuerzo compresivo, extensivo y de cizalle):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ALLA 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FALLA   NORMAL,    FALLA   INVERSA   O   DE   EMPUJE,  FALLA   DE   RUMBO   O   TRANSCURRENTE  (SINESTRAL  Y  DEXTRAL); 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DIACLAS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mentos de una falla: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lano de falla,   traza de  falla,   desplazamiento   de    falla,   estrías de   falla,   brecha   de   falla,   escarpe  de  falla,    facetas    triangu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rientación  espacial  de  un plano   (estrato,  flanco  o  limbo  del  pliegue, diaclasa   o  falla):     </a:t>
            </a:r>
            <a:r>
              <a:rPr b="1" lang="es-ES_tradnl" sz="2800" spc="-1" strike="noStrike">
                <a:solidFill>
                  <a:srgbClr val="00cc99"/>
                </a:solidFill>
                <a:latin typeface="Times New Roman"/>
              </a:rPr>
              <a:t>RUMBO  y  MANT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liegues y fallas se producen  desde  dimenciones  microscópicos  (microestructuras)  a  macro  y   megascópicas  (megaestructuras  de  cientos  miles de   kilómetros de extens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IPSOIDE  DE   ESFUER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IPSOIDE   DE  DE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1752480"/>
            <a:ext cx="3733920" cy="1752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4572000"/>
            <a:ext cx="3657600" cy="1752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ORDANCIA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uperficie de tiemp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CORDANCIA  DE   EROS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CORDANCIA   ANGUL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23:25:44Z</dcterms:created>
  <dc:creator>Universidad de Chile</dc:creator>
  <dc:description/>
  <dc:language>en-US</dc:language>
  <cp:lastModifiedBy>Departamento de Geología</cp:lastModifiedBy>
  <cp:lastPrinted>2001-08-28T23:16:25Z</cp:lastPrinted>
  <dcterms:modified xsi:type="dcterms:W3CDTF">2001-08-30T21:59:45Z</dcterms:modified>
  <cp:revision>17</cp:revision>
  <dc:subject/>
  <dc:title>DEFORMACIÓN DE LA CORTEZA Disciplina geológica: GEOLOGÍA ESTRUCTURAL</dc:title>
</cp:coreProperties>
</file>